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E93-EF04-4CCB-9B8D-2A931E69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19F-2A5E-4ABE-BE2F-D1A5122D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020-9F2B-498B-B728-E5918BB9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8FB-DAA4-43AF-927F-391725B4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A34-0665-4947-ADD0-434EA629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1B4-8C87-4E6C-8FEC-DB55A6CE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91B-8679-4CDD-B192-C02ED505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32A-1586-46EA-92AD-7C8A4985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684-CA5B-43C1-A363-CA6839CB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DCA-3A56-4EDA-B3F7-B7A1279E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BA8-6E1B-4D36-8C3E-CD1A732E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296-A8F1-4B6C-97D8-71A3004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3DE5-BA03-4389-A3E8-6D845297D85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9720" y="-36720"/>
            <a:ext cx="9197640" cy="6956280"/>
          </a:xfrm>
          <a:prstGeom prst="rect">
            <a:avLst/>
          </a:prstGeom>
          <a:solidFill>
            <a:srgbClr val="4a5462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344552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9160" y="3631680"/>
            <a:ext cx="8875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ESENTATION DU DISPOSITIF DE MOBILISATION INTERNE MIS EN PLACE PAR LA COMMUNAUTE D’AGGLOMERATION EVRY CENTRE ESS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3537000"/>
            <a:ext cx="6462720" cy="0"/>
          </a:xfrm>
          <a:prstGeom prst="line">
            <a:avLst/>
          </a:prstGeom>
          <a:ln w="5076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9680" y="1401840"/>
            <a:ext cx="3003480" cy="148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27080" y="2938320"/>
            <a:ext cx="347040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4"/>
          <p:cNvSpPr/>
          <p:nvPr/>
        </p:nvSpPr>
        <p:spPr>
          <a:xfrm>
            <a:off x="458640" y="18446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394A46F6-6627-425E-B269-2DBE8F8927EE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473040" y="1989000"/>
            <a:ext cx="8223120" cy="393228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39640" y="2203560"/>
            <a:ext cx="806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Elaboration du PCET 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Sollicitation des services pour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ollecte des données pour le bilan des émissions de GES « patrimoine, compétences et services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Etat des lieux de la politique Climat-Energie selon le référentiel Cit’Er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ollecte des données pour le bilan des émissions de GES « territoi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iagnostic de vulnérabilité du territoire (en c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Elaboration du plan d’actions (à ven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500040" y="134136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Exemple de mobilisation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4"/>
          <p:cNvSpPr/>
          <p:nvPr/>
        </p:nvSpPr>
        <p:spPr>
          <a:xfrm>
            <a:off x="458640" y="18446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0DE1E5AC-858F-427D-8BDA-D34D623C7AA1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473040" y="1989000"/>
            <a:ext cx="8223120" cy="393228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39640" y="2195640"/>
            <a:ext cx="806472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Elaboration du PCET 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éthodologie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ésentation des démarches et des méthodologies pour la collecte des données : en comité thémat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lecte des données : entretiens individuels pour les interlocuteurs « clés » ou échanges de m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titution et validation des résultats : en comité th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lidation définitive : en comité de pilo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00040" y="134136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Exemple de mobilisation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4"/>
          <p:cNvSpPr/>
          <p:nvPr/>
        </p:nvSpPr>
        <p:spPr>
          <a:xfrm>
            <a:off x="458640" y="18446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459D5604-E8C6-4C9D-9E8F-7E4C746476E6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73040" y="1989000"/>
            <a:ext cx="8223120" cy="393228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39640" y="2195640"/>
            <a:ext cx="8064720" cy="30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La mobilisation interne en 2012 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3 comités de pilotage Développement Dur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3 comités technique Développement Durable (15 à 20 participants en moyen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7 Comités thématiqu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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2 « Biodiversité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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2 « Climat – Energie – Mobilité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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3 « Eco-responsabilité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+ des entretiens individuels, des rdv téléphoniqu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00040" y="134136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Exemple de mobilisation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22200" y="3645000"/>
            <a:ext cx="849780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58640" y="616572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36C550AC-8D29-4E41-909E-3F75A887D9FE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"/>
          <p:cNvSpPr/>
          <p:nvPr/>
        </p:nvSpPr>
        <p:spPr>
          <a:xfrm>
            <a:off x="324000" y="2565360"/>
            <a:ext cx="849780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50720" y="2889360"/>
            <a:ext cx="815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Eléments de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4"/>
          <p:cNvSpPr/>
          <p:nvPr/>
        </p:nvSpPr>
        <p:spPr>
          <a:xfrm>
            <a:off x="458640" y="18446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76053FE5-4A76-4F00-A638-F60DD0C7521F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473040" y="2060640"/>
            <a:ext cx="8223120" cy="381636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539640" y="2571840"/>
            <a:ext cx="806472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te mobilisation des services et des é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lecte des données rapide et efficace pour le bilan EGES « patrimoine, compétence et services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hanges des points de vue enrichiss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illeure visibilité de la direction DD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aciliter la transversalité et systématiser la prise en compte de l’enjeu DD dans les projets portés par l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500040" y="134136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Les points 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4"/>
          <p:cNvSpPr/>
          <p:nvPr/>
        </p:nvSpPr>
        <p:spPr>
          <a:xfrm>
            <a:off x="458640" y="18446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CE7A548C-6D04-4ABD-9322-E4A5BCA5DEB0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473040" y="2060640"/>
            <a:ext cx="8223120" cy="381636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9640" y="2492280"/>
            <a:ext cx="806472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ier les bons interlocuteurs référents, éviter si possible de les « désigner », privilégier une participation basée sur le volontariat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iter de mobiliser ces référents sur des réunions où sont abordés trop de sujets, privilégier les groupes thématiques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oser de projets concrets sur lesquels les solliciter et qui peuvent montrer des avancées réelles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ser des rencontres régulières pour faire des points d’avancement et ainsi éviter que la mobilisation s’essouffle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’un point de vue managérial, valoriser si possible le rôle de ces référents (dans les fiches de poste ? lors des entretiens d’évaluations ?..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500040" y="134136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Les facteurs de réus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4"/>
          <p:cNvSpPr/>
          <p:nvPr/>
        </p:nvSpPr>
        <p:spPr>
          <a:xfrm>
            <a:off x="458640" y="18446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4D8B7074-BDD1-44C6-809B-6B09C5D7B957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73040" y="2075040"/>
            <a:ext cx="8223120" cy="378756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39640" y="2590920"/>
            <a:ext cx="8064720" cy="25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ollicitations nombreuses ((liées à un contexte réglementaire dense : bilan EGES, rapport D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ouplesse dans les méthodes de recueil de données (réunions, entretiens individuels, rdv téléphoniques, mail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nticipation pour ne pas réinterroger inuti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OPIL composé d’élus en charge de délégations « techniques 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Elargir cette instance aux vice-présidents en charge de délégations clés (aménagement, transport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500040" y="134136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Les freins / Les pistes d’améli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9720" y="-36720"/>
            <a:ext cx="9197640" cy="6956280"/>
          </a:xfrm>
          <a:prstGeom prst="rect">
            <a:avLst/>
          </a:prstGeom>
          <a:solidFill>
            <a:srgbClr val="4a5462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34455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90720" y="3537000"/>
            <a:ext cx="6462720" cy="0"/>
          </a:xfrm>
          <a:prstGeom prst="line">
            <a:avLst/>
          </a:prstGeom>
          <a:ln w="5076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9680" y="1401840"/>
            <a:ext cx="3003480" cy="1482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-127080" y="2938320"/>
            <a:ext cx="347040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>
            <a:off x="322200" y="3645000"/>
            <a:ext cx="849780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58640" y="616572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5C5FEA29-B5FA-4D1B-A13A-AD717F0B66A6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"/>
          <p:cNvSpPr/>
          <p:nvPr/>
        </p:nvSpPr>
        <p:spPr>
          <a:xfrm>
            <a:off x="324000" y="2565360"/>
            <a:ext cx="849780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50720" y="2889360"/>
            <a:ext cx="815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La stratégie communautair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développement du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458640" y="191628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A24E424D-BD60-4A06-9742-241B51062D55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473040" y="2178000"/>
            <a:ext cx="8223120" cy="374328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539640" y="2533680"/>
            <a:ext cx="806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émarche choisi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ncer une démarche pragmatique en identifiant six actions phares contribuant au développement durable du territo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l conducteu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former l’aménagement et la gestion du territoire, modifier les comportements et mobiliser le tissu économique local afin d’adapter l’agglomération à l’urgence écolog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00040" y="142560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Stratégie communautaire de développement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458640" y="191628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FB7486EC-41E2-4DCA-A275-00F35CFC6593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473040" y="2178000"/>
            <a:ext cx="8223120" cy="374328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539640" y="2540160"/>
            <a:ext cx="8064720" cy="19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6 chantiers fondateurs 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aborer puis animer un schéma directeur de la biodiversité urba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édiger puis appliquer u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la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mat–air-éner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imer une démarche d’intégration de la qualité environnementale dans les projets de construction et d’amé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500040" y="142560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Stratégie communautaire de développement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4"/>
          <p:cNvSpPr/>
          <p:nvPr/>
        </p:nvSpPr>
        <p:spPr>
          <a:xfrm>
            <a:off x="458640" y="191628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65B2B885-4472-4520-B813-29314B2DB982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473040" y="2178000"/>
            <a:ext cx="8223120" cy="374328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539640" y="2332080"/>
            <a:ext cx="7848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6 chantiers fondateurs 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voriser une gestion durable des zones d’activités économiques axée sur le développement de l’écologie industri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crire les actions des différents chantiers dans la planification urbaine du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ncer une démarche d’éco-responsabilité de l’administration communau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00040" y="142560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Stratégie communautaire de développement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2"/>
          <p:cNvSpPr/>
          <p:nvPr/>
        </p:nvSpPr>
        <p:spPr>
          <a:xfrm>
            <a:off x="322200" y="3645000"/>
            <a:ext cx="849780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58640" y="616572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A5E40909-DF7C-448A-B640-2A6FC3344354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"/>
          <p:cNvSpPr/>
          <p:nvPr/>
        </p:nvSpPr>
        <p:spPr>
          <a:xfrm>
            <a:off x="324000" y="2565360"/>
            <a:ext cx="849780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50720" y="2889360"/>
            <a:ext cx="815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Démarche retenue pour la mobilisation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>
            <a:off x="458640" y="18446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50DA1B8B-D47A-400D-B0A2-01C8AA327452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473040" y="1989000"/>
            <a:ext cx="8223120" cy="393228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539640" y="2362320"/>
            <a:ext cx="806472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La gouvernance 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n comité de pilotage « Développement durabl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 élus réfé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 représentants de l’administratio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que « chantier » de la stratégie de Développement Durable est spécifiquement porté par un élu de ce COP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500040" y="134136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Le dispositif de mobilisation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458640" y="18446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85C6FC71-B246-45BC-95C5-2CA4157177E1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73040" y="1989000"/>
            <a:ext cx="8223120" cy="393228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39640" y="2205000"/>
            <a:ext cx="806472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réation d’un réseau de référents DD 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n comité technique « Développement durabl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que direction de la CAECE y est représent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s 30 référents sont réunis en assemblée « plénière » lors des moments clés de l’avancée des chantiers 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 comités thématiques pour chaque chant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s membres du comité technique sont répartis dans des comités thématiques en fonction de leurs attribu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 des représentants des villes et des partenaires extérieurs (BET, financeurs, associations…) pour certains chant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00040" y="134136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Le dispositif de mobilisation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4"/>
          <p:cNvSpPr/>
          <p:nvPr/>
        </p:nvSpPr>
        <p:spPr>
          <a:xfrm>
            <a:off x="458640" y="18446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-127080" y="1251000"/>
            <a:ext cx="2503440" cy="0"/>
          </a:xfrm>
          <a:prstGeom prst="line">
            <a:avLst/>
          </a:prstGeom>
          <a:ln w="76320">
            <a:solidFill>
              <a:srgbClr val="430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458640" y="6081840"/>
            <a:ext cx="8236080" cy="0"/>
          </a:xfrm>
          <a:prstGeom prst="line">
            <a:avLst/>
          </a:prstGeom>
          <a:ln w="76320">
            <a:solidFill>
              <a:srgbClr val="008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409680" y="108000"/>
            <a:ext cx="2008080" cy="100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8294760" y="6381720"/>
            <a:ext cx="596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E33211AB-A11E-4D66-B31B-E6321660A691}" type="slidenum">
              <a:rPr b="0" lang="fr-FR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473040" y="1989000"/>
            <a:ext cx="8223120" cy="3932280"/>
          </a:xfrm>
          <a:prstGeom prst="roundRect">
            <a:avLst>
              <a:gd name="adj" fmla="val 8375"/>
            </a:avLst>
          </a:prstGeom>
          <a:noFill/>
          <a:ln w="12600">
            <a:solidFill>
              <a:srgbClr val="67676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39640" y="2252520"/>
            <a:ext cx="806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Elaboration du rapport annuel 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bilisation du comité technique : ju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ensement, par direction, des actions pouvant contribuer au développement durable du territoire : juillet à mi-sep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ésentation en comité thématique pour validation/ajustement : mi-octo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ésentation en comité de pilotage avant passage en Conseil de Communauté : fin octo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00040" y="1341360"/>
            <a:ext cx="815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0084bc"/>
                </a:solidFill>
                <a:latin typeface="Verdana"/>
              </a:rPr>
              <a:t>Exemple de mobilisation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7:20:36Z</dcterms:created>
  <dc:creator>Service Informatique</dc:creator>
  <dc:description/>
  <dc:language>en-US</dc:language>
  <cp:lastModifiedBy>CONSEIL GENERAL DE L'ESSONNE</cp:lastModifiedBy>
  <dcterms:modified xsi:type="dcterms:W3CDTF">2013-03-28T08:25:26Z</dcterms:modified>
  <cp:revision>63</cp:revision>
  <dc:subject/>
  <dc:title>Diapositive 1</dc:title>
</cp:coreProperties>
</file>