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5C2-721E-432B-96BA-E6F597BC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6BF-D9FA-4BB4-8204-839D8F8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253-9516-41DF-9A08-06378F03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1F6-CCA7-48B8-B5CC-D96A98DA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78C-18F1-43C7-A4A4-B6FC6AC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860-7703-4B6F-A930-F4125978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166-8791-4A42-BE8A-EA2C02B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2BC-4BE4-45C8-8C0B-39F03552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28B-3314-4EDA-8F3B-81CE797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F96-0CF7-4253-896B-9BBBC27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302-D1E7-4570-AF9C-08CA778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1E5-C9AC-4C1D-B1A5-03A9154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64C-AA6A-4FA3-9196-061FBF669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5360" y="250920"/>
            <a:ext cx="468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bilisation des acteurs du territo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6640" y="971640"/>
            <a:ext cx="504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Times New Roman"/>
              </a:rPr>
              <a:t>Communauté d’agglomération du Val d’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95560" y="140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560" y="1835280"/>
            <a:ext cx="5257800" cy="5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eil de développement depuis 2003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institution lié à la loi Voynet (1999) pour démocratie particip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5920" y="2411280"/>
            <a:ext cx="3528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Institution, Entreprise, Association, Élus Syndic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157720" y="2410560"/>
            <a:ext cx="142920" cy="50508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047"/>
                </a:lnTo>
                <a:cubicBezTo>
                  <a:pt x="10800" y="8947"/>
                  <a:pt x="16200" y="9847"/>
                  <a:pt x="21600" y="9847"/>
                </a:cubicBezTo>
                <a:cubicBezTo>
                  <a:pt x="16200" y="9847"/>
                  <a:pt x="10800" y="10747"/>
                  <a:pt x="10800" y="1164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2556000"/>
            <a:ext cx="1628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nitialement 100 memb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ujourd’hui mailing liste de 400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05000" y="284328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5000" y="2843280"/>
            <a:ext cx="504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3920" y="3618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280" y="3564000"/>
            <a:ext cx="2737080" cy="95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Groupes de tr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fois par mois autour de thématique, lors de la construction de projets type : A21 ou contrat de terri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562200"/>
            <a:ext cx="2376360" cy="76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éance Pléniè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fois tous les deux mois – Format plus régu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4280" y="4500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9360" y="4716360"/>
            <a:ext cx="1728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osition des ac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640" y="5219640"/>
            <a:ext cx="2089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sabilité (volet technici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4640" y="5724360"/>
            <a:ext cx="2089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oix 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4280" y="5003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4280" y="5508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050600">
            <a:off x="3428640" y="4282560"/>
            <a:ext cx="798480" cy="1657440"/>
          </a:xfrm>
          <a:custGeom>
            <a:avLst/>
            <a:gdLst>
              <a:gd name="textAreaLeft" fmla="*/ 106920 w 798480"/>
              <a:gd name="textAreaRight" fmla="*/ 691560 w 798480"/>
              <a:gd name="textAreaTop" fmla="*/ 289800 h 1657440"/>
              <a:gd name="textAreaBottom" fmla="*/ 1201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8280" y="4643280"/>
            <a:ext cx="71280" cy="1295640"/>
          </a:xfrm>
          <a:custGeom>
            <a:avLst/>
            <a:gdLst>
              <a:gd name="textAreaLeft" fmla="*/ 0 w 71280"/>
              <a:gd name="textAreaRight" fmla="*/ 25560 w 71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92640" y="4930920"/>
            <a:ext cx="21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ésentation des résultats et explication des choix fa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0280" y="6084720"/>
            <a:ext cx="6335640" cy="1388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6600"/>
                </a:solidFill>
                <a:uFillTx/>
                <a:latin typeface="Times New Roman"/>
              </a:rPr>
              <a:t>Clés de réussit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drer les règles du jeu de la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nouveler les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ge 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lterner sujet sectoriel pointus, et sujets globaux intéressant plus de m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280" y="7596360"/>
            <a:ext cx="6335640" cy="1388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990033"/>
                </a:solidFill>
                <a:uFillTx/>
                <a:latin typeface="Times New Roman"/>
              </a:rPr>
              <a:t>Frei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ong de suivre de l’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aire comprendre les choix f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intenir les acteurs sur toutes les thém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sparité du territoire et des problém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25360" y="250920"/>
            <a:ext cx="468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bilisation des acteurs du territo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9360" y="971640"/>
            <a:ext cx="22320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Times New Roman"/>
              </a:rPr>
              <a:t>Commune des 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9360" y="2050920"/>
            <a:ext cx="19447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genda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7720" y="1403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5476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jet de mandat en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5720" y="2050920"/>
            <a:ext cx="71280" cy="720720"/>
          </a:xfrm>
          <a:custGeom>
            <a:avLst/>
            <a:gdLst>
              <a:gd name="textAreaLeft" fmla="*/ 0 w 71280"/>
              <a:gd name="textAreaRight" fmla="*/ 2556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2050920"/>
            <a:ext cx="223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emps de la participation important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6640" y="5580000"/>
            <a:ext cx="2665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012 Plan d’actions partag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4280" y="2268360"/>
            <a:ext cx="73080" cy="3600720"/>
          </a:xfrm>
          <a:custGeom>
            <a:avLst/>
            <a:gdLst>
              <a:gd name="textAreaLeft" fmla="*/ 46800 w 73080"/>
              <a:gd name="textAreaRight" fmla="*/ 73440 w 7308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64000"/>
            <a:ext cx="13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ccompagnement par bureau d’étude et création d’un service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76640" y="4643280"/>
            <a:ext cx="2447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iagnostic partag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36640" y="2771640"/>
            <a:ext cx="50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73360" y="277164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00280" y="3059280"/>
            <a:ext cx="1512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tographie des acteurs du terri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0280" y="3059280"/>
            <a:ext cx="1729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ppui sur instances de concertation exis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3321000" y="2232000"/>
            <a:ext cx="216000" cy="2880000"/>
          </a:xfrm>
          <a:custGeom>
            <a:avLst/>
            <a:gdLst>
              <a:gd name="textAreaLeft" fmla="*/ 360 w 216000"/>
              <a:gd name="textAreaRight" fmla="*/ 78480 w 21600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00280" y="3780000"/>
            <a:ext cx="3600360" cy="58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lect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cteurs pour entret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oit 30 interviews sur thématiques 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7720" y="435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7720" y="5003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0036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e en place groupes de travail = les mercredi du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280" y="6084720"/>
            <a:ext cx="6335640" cy="1388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6600"/>
                </a:solidFill>
                <a:uFillTx/>
                <a:latin typeface="Times New Roman"/>
              </a:rPr>
              <a:t>Clés de réussit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drer les règles du jeu de la participation et s’y tenir = Méthodologie nécess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ide des instances déjà exis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ge 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munication en très en amont et pendant la conce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0280" y="7596360"/>
            <a:ext cx="6335640" cy="129276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990033"/>
                </a:solidFill>
                <a:uFillTx/>
                <a:latin typeface="Times New Roman"/>
              </a:rPr>
              <a:t>Frei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gilance sur la représentativité des acteurs (les plus présents ne sont pas toujours représentatif des ressentis généra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égitimité de l’échelle pour la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hoix des ateliers et de la communication au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5:42:20Z</dcterms:created>
  <dc:creator>CONSEIL GENERAL DE L'ESSONNE</dc:creator>
  <dc:description/>
  <dc:language>en-US</dc:language>
  <cp:lastModifiedBy>CONSEIL GENERAL DE L'ESSONNE</cp:lastModifiedBy>
  <dcterms:modified xsi:type="dcterms:W3CDTF">2013-04-05T16:25:50Z</dcterms:modified>
  <cp:revision>10</cp:revision>
  <dc:subject/>
  <dc:title>Diapositive 1</dc:title>
</cp:coreProperties>
</file>