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1823-0FD6-44B6-BA93-65E937E183DD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31a1f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E930-950E-4D2A-9D5E-F1F9E94D0F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arle ici du jour J, je reviendrai plus tard sur l’organisation préalable pour aboutir à un déroulé fluide et respecter les principes du FO, notamment «  les personnes qui se présentent sont les bonnes 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F2F3-BC72-4AAF-BEF1-94EFBCAEF4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arle ici du jour J, je reviendrai plus tard sur l’organisation préalable pour aboutir à un déroulé fluide et respecter les principes du FO, notamment «  les personnes qui se présentent sont les bonnes 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EC74-5645-47D4-8C24-5BC04A929C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ase de convergence: apres le partage des concepts et des constats on passe à l’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est possible de procéder à des priorisations des votes sur les rapports de la phases d’émergence pour créer des concesus et guider la réflexion du groupe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rôle du facilitat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03B9-41C0-44ED-BEDE-D915D12236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arle ici du jour J, je reviendrai plus tard sur l’organisation préalable pour aboutir à un déroulé fluide et respecter les principes du FO, notamment «  les personnes qui se présentent sont les bonnes 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ABA8-1637-49C2-969E-3F2DD435C1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forumouvert.facilitation.f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ilitation = pivot de la journé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076D-061B-42E6-83A3-FD39F7955B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C9B7-9150-4908-B8FC-CEA4590C6D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C5DE-2B08-4D07-8F79-0516565AC5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ais finalement rien de très original/nouveau dans ce genre de projet de conce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23E8-BA25-4BFD-8DE4-7BCC69E2E4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oupe de 10 à 2000 person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pen space= espace ouvert aux échanges, aux rencontres, aux discussions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es partisans affirment qu'un Forum Ouvert s'adapte aux groupes de toute taille, et qu'il a été utilisé avec des groupes allant de cinq à plusieurs milliers de participants. Selon ses promoteurs, il fonctionne mieux dans les conditions suivantes 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question abordée constitue pour les participants un enjeu réel 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participants s'intéressent réellement à cette question 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question a une complexité telle qu'une seule personne ou un petit groupe de personnes ne peuvent pleinement la comprendre 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réponse à la question exige des compétences très diverses et des gens très différents 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participants ont un intérêt sincère pour la question, même si leurs divergences de points de vue peut générer des conflits 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question exige une réponse immédi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promoteurs ne considèrent pas les forums ouverts appropriés lorsqu'une entité « contrôlante » exige des résultats spécifiques et prédéterminées ou lorsque l'une des parties revendique un contrôle sur le processus et / ou les résultats. http://fr.wikipedia.org/wiki/Forum_ouv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AFC4-3514-4936-942B-4993A46660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oi de la mobilité ou loi des 2 pied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 princ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us ces pre-requis sont partagés et assurent le bon fonctionnement du Forumouv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ais difficulté à rompre avec les injonctions sociaesl de politesse, notre modèle cultur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6AE6-5FFE-4590-85A4-56EFF37E7C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arle ici du jour J, je reviendrai plus tard sur l’organisation préalable pour aboutir à un déroulé fluide et respecter les principes du FO, notamment «  les personnes qui se présentent sont les bonnes 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7046-B204-42A8-B279-E707741688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arle ici du jour J, je reviendrai plus tard sur l’organisation préalable pour aboutir à un déroulé fluide et respecter les principes du FO, notamment «  les personnes qui se présentent sont les bonnes 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E2FF-3F60-4641-81D3-CB968E7079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arle ici du jour J, je reviendrai plus tard sur l’organisation préalable pour aboutir à un déroulé fluide et respecter les principes du FO, notamment «  les personnes qui se présentent sont les bonnes 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70DD-7039-41A7-AAE6-452F883746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ase d’émergence = phase de partage et de mise en commun et de partage au tour de la question posé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E57D-BE18-43D1-8921-01A967FCA8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arle ici du jour J, je reviendrai plus tard sur l’organisation préalable pour aboutir à un déroulé fluide et respecter les principes du FO, notamment «  les personnes qui se présentent sont les bonnes 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D923-BB2B-462D-A13E-0B3E8DCC1E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arle ici du jour J, je reviendrai plus tard sur l’organisation préalable pour aboutir à un déroulé fluide et respecter les principes du FO, notamment «  les personnes qui se présentent sont les bonnes 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2252-8628-4531-8E4A-EC44C50B90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3BFB-2147-4199-8D89-3C8E68BC7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6680" y="1320480"/>
            <a:ext cx="628668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26680" y="3715200"/>
            <a:ext cx="628668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709F-FC56-4496-956E-60AFE5D69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6680" y="132048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960" y="132048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26680" y="371520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960" y="371520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463E-1DE9-4AB0-AE60-73F126812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6680" y="1320480"/>
            <a:ext cx="202392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52120" y="1320480"/>
            <a:ext cx="202392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7560" y="1320480"/>
            <a:ext cx="202392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26680" y="3715200"/>
            <a:ext cx="202392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52120" y="3715200"/>
            <a:ext cx="202392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77560" y="3715200"/>
            <a:ext cx="202392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BDAA-EE4B-4D16-A6A9-6D98BF1FF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26680" y="1320480"/>
            <a:ext cx="628668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646A-EF92-4B68-9DC9-638567F10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26680" y="1320480"/>
            <a:ext cx="628668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916D-5DBB-4F3A-B681-7C12F315E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6680" y="1320480"/>
            <a:ext cx="306756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960" y="1320480"/>
            <a:ext cx="306756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A2B3-79AE-46EC-A268-EE13D7AD3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0A7B-5B30-4220-BF8F-2978435D9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17240"/>
            <a:ext cx="785016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6E93-40F8-4F44-987B-1FC7EE562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26680" y="132048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960" y="1320480"/>
            <a:ext cx="306756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26680" y="371520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DAAE-CBFB-411D-81E2-A684C559F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6680" y="1320480"/>
            <a:ext cx="306756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960" y="132048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960" y="371520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80B0-3E53-4627-952C-1683AB16C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6680" y="132048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960" y="1320480"/>
            <a:ext cx="306756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26680" y="3715200"/>
            <a:ext cx="628668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07BB-1B63-4707-91A2-55FDF4664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31a1f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6680" y="1320480"/>
            <a:ext cx="628668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47474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e09c18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47474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47474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47474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47474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47474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47474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14280" y="6492600"/>
            <a:ext cx="12384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2E05-D0D4-4734-8118-430694933AFB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5" descr="PPT TER.pdf"/>
          <p:cNvPicPr/>
          <p:nvPr/>
        </p:nvPicPr>
        <p:blipFill>
          <a:blip r:embed="rId1"/>
          <a:stretch/>
        </p:blipFill>
        <p:spPr>
          <a:xfrm>
            <a:off x="0" y="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Le Forum-ouvert ,</a:t>
            </a:r>
            <a:br>
              <a:rPr sz="3200"/>
            </a:b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un outil d’intelligence collective</a:t>
            </a:r>
            <a:br>
              <a:rPr sz="3200"/>
            </a:br>
            <a:r>
              <a:rPr b="0" lang="fr-FR" sz="1600" spc="-1" strike="noStrike">
                <a:solidFill>
                  <a:srgbClr val="68b133"/>
                </a:solidFill>
                <a:latin typeface="Tahoma"/>
              </a:rPr>
              <a:t>Réunion du Réseau Climat Essonnien</a:t>
            </a:r>
            <a:br>
              <a:rPr sz="1600"/>
            </a:br>
            <a:r>
              <a:rPr b="0" lang="fr-FR" sz="1600" spc="-1" strike="noStrike">
                <a:solidFill>
                  <a:srgbClr val="68b133"/>
                </a:solidFill>
                <a:latin typeface="Tahoma"/>
              </a:rPr>
              <a:t>28/03/13</a:t>
            </a:r>
            <a:endParaRPr b="1" lang="en-US" sz="16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48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917F-20BD-4787-ACE2-2AEDF6921DA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9000" y="236232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 algn="r">
              <a:lnSpc>
                <a:spcPct val="95000"/>
              </a:lnSpc>
              <a:spcBef>
                <a:spcPts val="700"/>
              </a:spcBef>
              <a:spcAft>
                <a:spcPts val="1800"/>
              </a:spcAft>
              <a:buClr>
                <a:srgbClr val="351e1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51e1f"/>
                </a:solidFill>
                <a:latin typeface="Tahoma"/>
              </a:rPr>
              <a:t>Présentation de l’outil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514440" indent="-514440" algn="r">
              <a:lnSpc>
                <a:spcPct val="95000"/>
              </a:lnSpc>
              <a:spcBef>
                <a:spcPts val="700"/>
              </a:spcBef>
              <a:spcAft>
                <a:spcPts val="1800"/>
              </a:spcAft>
              <a:buClr>
                <a:srgbClr val="351e1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51e1f"/>
                </a:solidFill>
                <a:latin typeface="Tahoma"/>
              </a:rPr>
              <a:t>L’expérimentation de l’ARENE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514440" indent="-514440" algn="r">
              <a:lnSpc>
                <a:spcPct val="95000"/>
              </a:lnSpc>
              <a:spcBef>
                <a:spcPts val="700"/>
              </a:spcBef>
              <a:spcAft>
                <a:spcPts val="1800"/>
              </a:spcAft>
              <a:buClr>
                <a:srgbClr val="351e1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51e1f"/>
                </a:solidFill>
                <a:latin typeface="Tahoma"/>
              </a:rPr>
              <a:t>Points de vigilance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</p:txBody>
      </p:sp>
      <p:pic>
        <p:nvPicPr>
          <p:cNvPr id="50" name="Image 6" descr="LOGO-ARENE_RVB.jpg"/>
          <p:cNvPicPr/>
          <p:nvPr/>
        </p:nvPicPr>
        <p:blipFill>
          <a:blip r:embed="rId2"/>
          <a:stretch/>
        </p:blipFill>
        <p:spPr>
          <a:xfrm>
            <a:off x="210960" y="5486400"/>
            <a:ext cx="2608560" cy="12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’émergence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a rédaction des rapport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B9B9-1341-4852-B8E1-94E4999239A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 5" descr="Forum_Ouvert_260213_092.jpg"/>
          <p:cNvPicPr/>
          <p:nvPr/>
        </p:nvPicPr>
        <p:blipFill>
          <a:blip r:embed="rId2"/>
          <a:stretch/>
        </p:blipFill>
        <p:spPr>
          <a:xfrm>
            <a:off x="-685800" y="2362320"/>
            <a:ext cx="5181480" cy="3448080"/>
          </a:xfrm>
          <a:prstGeom prst="rect">
            <a:avLst/>
          </a:prstGeom>
          <a:ln w="0">
            <a:noFill/>
          </a:ln>
        </p:spPr>
      </p:pic>
      <p:pic>
        <p:nvPicPr>
          <p:cNvPr id="94" name="Image 6" descr="Forum_Ouvert_260213_093.jpg"/>
          <p:cNvPicPr/>
          <p:nvPr/>
        </p:nvPicPr>
        <p:blipFill>
          <a:blip r:embed="rId3"/>
          <a:stretch/>
        </p:blipFill>
        <p:spPr>
          <a:xfrm>
            <a:off x="4038480" y="3276720"/>
            <a:ext cx="51055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’émergence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Affichage des rapport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CC56-9F30-47BF-967D-5BB498D9F377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age 5" descr="Forum_Ouvert_260213_101.jpg"/>
          <p:cNvPicPr/>
          <p:nvPr/>
        </p:nvPicPr>
        <p:blipFill>
          <a:blip r:embed="rId2"/>
          <a:stretch/>
        </p:blipFill>
        <p:spPr>
          <a:xfrm>
            <a:off x="1523880" y="2438280"/>
            <a:ext cx="60199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e convergence </a:t>
            </a:r>
            <a:endParaRPr b="1" lang="en-US" sz="2800" spc="-1" strike="noStrike">
              <a:solidFill>
                <a:srgbClr val="e09c18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Même déroulé que l’émergence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8C69-E1A2-4BFF-828E-398E44FD2CFD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mage 5" descr="Forum_Ouvert_260213_117.jpg"/>
          <p:cNvPicPr/>
          <p:nvPr/>
        </p:nvPicPr>
        <p:blipFill>
          <a:blip r:embed="rId2"/>
          <a:stretch/>
        </p:blipFill>
        <p:spPr>
          <a:xfrm>
            <a:off x="1523880" y="2590920"/>
            <a:ext cx="6069240" cy="4038480"/>
          </a:xfrm>
          <a:prstGeom prst="rect">
            <a:avLst/>
          </a:prstGeom>
          <a:ln w="0">
            <a:noFill/>
          </a:ln>
        </p:spPr>
      </p:pic>
      <p:sp>
        <p:nvSpPr>
          <p:cNvPr id="105" name="Explosion 2 6"/>
          <p:cNvSpPr/>
          <p:nvPr/>
        </p:nvSpPr>
        <p:spPr>
          <a:xfrm rot="217200">
            <a:off x="4495680" y="2823840"/>
            <a:ext cx="3508560" cy="1447920"/>
          </a:xfrm>
          <a:prstGeom prst="irregularSeal2">
            <a:avLst/>
          </a:prstGeom>
          <a:solidFill>
            <a:srgbClr val="68b133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 temps de clôture du Forum-ouvert, en cercle   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8F50-9567-4393-93BA-EEEBE370606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mage 8" descr="Forum_Ouvert_260213_125.jpg"/>
          <p:cNvPicPr/>
          <p:nvPr/>
        </p:nvPicPr>
        <p:blipFill>
          <a:blip r:embed="rId2"/>
          <a:stretch/>
        </p:blipFill>
        <p:spPr>
          <a:xfrm>
            <a:off x="76320" y="1905120"/>
            <a:ext cx="4800600" cy="3193920"/>
          </a:xfrm>
          <a:prstGeom prst="rect">
            <a:avLst/>
          </a:prstGeom>
          <a:ln w="0">
            <a:noFill/>
          </a:ln>
        </p:spPr>
      </p:pic>
      <p:pic>
        <p:nvPicPr>
          <p:cNvPr id="111" name="Image 7" descr="Forum_Ouvert_260213_127.jpg"/>
          <p:cNvPicPr/>
          <p:nvPr/>
        </p:nvPicPr>
        <p:blipFill>
          <a:blip r:embed="rId3"/>
          <a:stretch/>
        </p:blipFill>
        <p:spPr>
          <a:xfrm>
            <a:off x="3809880" y="3276720"/>
            <a:ext cx="5145120" cy="34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« Siders »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pic>
        <p:nvPicPr>
          <p:cNvPr id="114" name="Image 6" descr="Forum_Ouvert_260213_023.jpg"/>
          <p:cNvPicPr/>
          <p:nvPr/>
        </p:nvPicPr>
        <p:blipFill>
          <a:blip r:embed="rId2"/>
          <a:stretch/>
        </p:blipFill>
        <p:spPr>
          <a:xfrm>
            <a:off x="5943600" y="533520"/>
            <a:ext cx="3075120" cy="2046240"/>
          </a:xfrm>
          <a:prstGeom prst="rect">
            <a:avLst/>
          </a:prstGeom>
          <a:ln w="0">
            <a:noFill/>
          </a:ln>
        </p:spPr>
      </p:pic>
      <p:sp>
        <p:nvSpPr>
          <p:cNvPr id="115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DE91-F1FA-4019-AE65-29684DB1896D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La facilitation : 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1 personne, même pour un grand groupe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Une introduction de 15 min – une clôture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Un accompagnement tout le long du Forum ouvert dans l’auto organisation et l’auto responsabilité des participants 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Importance de la gestion du temps tout au long du projet! 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Inviter les participants ciblés le plus tôt possible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Identifier les bons contacts pour la logistique et la communication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Plus la logistique est réglée précisément et en amont, plus la journée est fluide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Expérimentation ARENE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Présentation et groupe de travail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Objectif 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: expérimenter en 2013 la mise en œuvre de forums-ouverts dans le cadre d’un AG21 et/ou PCET en IDF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Des collectivités  </a:t>
            </a:r>
            <a:r>
              <a:rPr b="0" i="1" lang="fr-FR" sz="2400" spc="-1" strike="noStrike">
                <a:solidFill>
                  <a:srgbClr val="351e1f"/>
                </a:solidFill>
                <a:latin typeface="Calibri"/>
              </a:rPr>
              <a:t>expérimentatrices, observatrices 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et </a:t>
            </a:r>
            <a:r>
              <a:rPr b="0" i="1" lang="fr-FR" sz="2400" spc="-1" strike="noStrike">
                <a:solidFill>
                  <a:srgbClr val="351e1f"/>
                </a:solidFill>
                <a:latin typeface="Calibri"/>
              </a:rPr>
              <a:t>ressources 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lvl="1" marL="262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Un travail collectif avec le groupe</a:t>
            </a:r>
            <a:endParaRPr b="1" lang="en-US" sz="2400" spc="-1" strike="noStrike">
              <a:solidFill>
                <a:srgbClr val="e09c18"/>
              </a:solidFill>
              <a:latin typeface="Tahoma"/>
            </a:endParaRPr>
          </a:p>
          <a:p>
            <a:pPr lvl="1" marL="262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Un accompagnement des collectivités organisatrices</a:t>
            </a:r>
            <a:endParaRPr b="1" lang="en-US" sz="2400" spc="-1" strike="noStrike">
              <a:solidFill>
                <a:srgbClr val="e09c18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Un travail de capitalisation et de diffusion aux autres collectivités franciliennes 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51e1f"/>
                </a:solidFill>
                <a:latin typeface="Calibri"/>
              </a:rPr>
              <a:t>Des fiches de retours d’expériences français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51e1f"/>
                </a:solidFill>
                <a:latin typeface="Calibri"/>
              </a:rPr>
              <a:t>Un recueil de préconisations pour les techniciens en charge de la concertation dans les AG21 et PCE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D345-330A-49EE-AB0E-1753609B9240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Expérimentation ARENE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« Notre » forum-ouvert, le 26/02/2013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51e1f"/>
                </a:solidFill>
                <a:latin typeface="Calibri"/>
              </a:rPr>
              <a:t>Nombre de participants: </a:t>
            </a: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51e1f"/>
                </a:solidFill>
                <a:latin typeface="Calibri"/>
              </a:rPr>
              <a:t>Équipe d’organisation</a:t>
            </a: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: 3 + facilitatrice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51e1f"/>
                </a:solidFill>
                <a:latin typeface="Calibri"/>
              </a:rPr>
              <a:t>Partenaire</a:t>
            </a: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: Mairie de Paris _ Maison des Acteurs du Paris durable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D8CE-3205-4E5F-A364-50AD9588638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Expérimentation ARENE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Retours des participants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320480"/>
            <a:ext cx="8534520" cy="55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51e1f"/>
                </a:solidFill>
                <a:latin typeface="Calibri"/>
              </a:rPr>
              <a:t>Le fait de pouvoir faire émerger des idées, des projets à partir de la diversité des participants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51e1f"/>
                </a:solidFill>
                <a:latin typeface="Calibri"/>
              </a:rPr>
              <a:t>Une nouvelle méthode, des rencontres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51e1f"/>
                </a:solidFill>
                <a:latin typeface="Calibri"/>
              </a:rPr>
              <a:t>Le débat, les idées qui ont émergées, le buffet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51e1f"/>
                </a:solidFill>
                <a:latin typeface="Calibri"/>
              </a:rPr>
              <a:t>Les rapports publiés en séance, production/journal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51e1f"/>
                </a:solidFill>
                <a:latin typeface="Calibri"/>
              </a:rPr>
              <a:t>Convivialité générale, intérêt des sujets évoqués, logistique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51e1f"/>
                </a:solidFill>
                <a:latin typeface="Calibri"/>
              </a:rPr>
              <a:t>Convivialité, échange, liberté d’expression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351e1f"/>
                </a:solidFill>
                <a:latin typeface="Calibri"/>
              </a:rPr>
              <a:t>Un peu plus de détails sur la méthodologie au début de la journée et bien préciser la finalité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351e1f"/>
                </a:solidFill>
                <a:latin typeface="Calibri"/>
              </a:rPr>
              <a:t>Un peu court pour aller jusqu’au bout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351e1f"/>
                </a:solidFill>
                <a:latin typeface="Calibri"/>
              </a:rPr>
              <a:t>Peut être à condenser pour toucher plus largement Le cadre de départ était aussi trop large et axé « public »…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351e1f"/>
                </a:solidFill>
                <a:latin typeface="Calibri"/>
              </a:rPr>
              <a:t>Liaison entre phases d’émergence et de convergence. Configuration des salles pour les ateliers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351e1f"/>
                </a:solidFill>
                <a:latin typeface="Calibri"/>
              </a:rPr>
              <a:t>Concrétiser les solutions imaginées en travaillant sur la suite</a:t>
            </a: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4A86-225B-4EE3-98DB-240AD1342BD5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Image 5" descr="Action - experimentation du FO  alias.jpg"/>
          <p:cNvPicPr/>
          <p:nvPr/>
        </p:nvPicPr>
        <p:blipFill>
          <a:blip r:embed="rId2"/>
          <a:stretch/>
        </p:blipFill>
        <p:spPr>
          <a:xfrm>
            <a:off x="380880" y="3657600"/>
            <a:ext cx="7543800" cy="1720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Expérimentation ARENE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Retours des organisatrices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51e1f"/>
                </a:solidFill>
                <a:latin typeface="Calibri"/>
              </a:rPr>
              <a:t>Budget temps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51e1f"/>
                </a:solidFill>
                <a:latin typeface="Calibri"/>
              </a:rPr>
              <a:t>Cécile </a:t>
            </a:r>
            <a:r>
              <a:rPr b="1" lang="fr-FR" sz="2000" spc="-1" strike="noStrike">
                <a:solidFill>
                  <a:srgbClr val="351e1f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351e1f"/>
                </a:solidFill>
                <a:latin typeface="Calibri"/>
              </a:rPr>
              <a:t>10 j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51e1f"/>
                </a:solidFill>
                <a:latin typeface="Calibri"/>
              </a:rPr>
              <a:t>Pascale</a:t>
            </a:r>
            <a:r>
              <a:rPr b="1" lang="fr-FR" sz="2000" spc="-1" strike="noStrike">
                <a:solidFill>
                  <a:srgbClr val="351e1f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351e1f"/>
                </a:solidFill>
                <a:latin typeface="Calibri"/>
              </a:rPr>
              <a:t> 5 j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51e1f"/>
                </a:solidFill>
                <a:latin typeface="Calibri"/>
              </a:rPr>
              <a:t>Célia </a:t>
            </a:r>
            <a:r>
              <a:rPr b="1" lang="fr-FR" sz="2000" spc="-1" strike="noStrike">
                <a:solidFill>
                  <a:srgbClr val="351e1f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351e1f"/>
                </a:solidFill>
                <a:latin typeface="Calibri"/>
              </a:rPr>
              <a:t>2 j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51e1f"/>
                </a:solidFill>
                <a:latin typeface="Calibri"/>
              </a:rPr>
              <a:t>Outil spécifique de gestion de projet à partager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51e1f"/>
                </a:solidFill>
                <a:latin typeface="Calibri"/>
              </a:rPr>
              <a:t>Des rôles détaillés et attribués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BA2F-FBDE-46F7-81CB-25E66322420C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oints de vigilance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Importance de l’organisation préalable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51e1f"/>
                </a:solidFill>
                <a:latin typeface="Calibri"/>
              </a:rPr>
              <a:t>Organisation transparente </a:t>
            </a: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pour les participants: besoin de </a:t>
            </a:r>
            <a:r>
              <a:rPr b="1" lang="fr-FR" sz="2800" spc="-1" strike="noStrike">
                <a:solidFill>
                  <a:srgbClr val="351e1f"/>
                </a:solidFill>
                <a:latin typeface="Calibri"/>
              </a:rPr>
              <a:t>fluidité </a:t>
            </a: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le jour J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Démarche très </a:t>
            </a:r>
            <a:r>
              <a:rPr b="1" lang="fr-FR" sz="2800" spc="-1" strike="noStrike">
                <a:solidFill>
                  <a:srgbClr val="351e1f"/>
                </a:solidFill>
                <a:latin typeface="Calibri"/>
              </a:rPr>
              <a:t>cadrée </a:t>
            </a: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dans son organisation, sa logistique et les </a:t>
            </a:r>
            <a:r>
              <a:rPr b="1" lang="fr-FR" sz="2800" spc="-1" strike="noStrike">
                <a:solidFill>
                  <a:srgbClr val="351e1f"/>
                </a:solidFill>
                <a:latin typeface="Calibri"/>
              </a:rPr>
              <a:t>besoins matériels et humains </a:t>
            </a: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– conséquents!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51e1f"/>
                </a:solidFill>
                <a:latin typeface="Calibri"/>
              </a:rPr>
              <a:t>Temps de préparation</a:t>
            </a: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 proportionnel au calibrage ( a minima 6 semaines pour un forum ouvert d’une journée)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46D-9B8E-45A6-8047-571B45CC387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Historique et objectifs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Décrit et fixé en 1985 par Harrison Owen, consultant en organisation </a:t>
            </a:r>
            <a:r>
              <a:rPr b="0" lang="fr-FR" sz="2400" spc="-1" strike="noStrike">
                <a:solidFill>
                  <a:srgbClr val="351e1f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 comment recréer la dynamique et l’énergie des échanges lors des </a:t>
            </a: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pauses-café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Mobilisation d’un groupe autour d’une question </a:t>
            </a: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complexe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Nécessité 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de traiter une question « à </a:t>
            </a: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enjeux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 »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« </a:t>
            </a: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Production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 » assurée lors du processus, en un </a:t>
            </a: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temps réduit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Créativité 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des aspects abordés et des réponses proposées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Ouverture à </a:t>
            </a: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l’imprévu 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et au </a:t>
            </a:r>
            <a:r>
              <a:rPr b="1" lang="fr-FR" sz="2400" spc="-1" strike="noStrike">
                <a:solidFill>
                  <a:srgbClr val="351e1f"/>
                </a:solidFill>
                <a:latin typeface="Calibri"/>
              </a:rPr>
              <a:t>lâcher-prise </a:t>
            </a:r>
            <a:r>
              <a:rPr b="0" lang="fr-FR" sz="2400" spc="-1" strike="noStrike">
                <a:solidFill>
                  <a:srgbClr val="351e1f"/>
                </a:solidFill>
                <a:latin typeface="Calibri"/>
              </a:rPr>
              <a:t>du commanditaire </a:t>
            </a:r>
            <a:endParaRPr b="0" lang="en-US" sz="24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9043-3D18-4413-9DF6-4F2B61B290F9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oints de vigilance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pour des des bénéfices certains…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roduction assurée: rapports d’ateliers et plan d’actions, sur un temps court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Identification de projets et de porteurs de projets hors administration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Mobilisateur pour l’équipe d’organisation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Energisant et galvanisateur pour les participants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Ambiance conviviale « obligée »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9D3B-8115-42C1-A3D1-F3545F32F98C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Le forum-ouvert: un outil parmi d’autres, pas la panacée!</a:t>
            </a:r>
            <a:endParaRPr b="1" lang="en-US" sz="32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51e1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Tahoma"/>
              </a:rPr>
              <a:t>Quels objectifs pour l’utilisation de l’outil?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51e1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Tahoma"/>
              </a:rPr>
              <a:t>Quel public cible?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51e1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Tahoma"/>
              </a:rPr>
              <a:t>Quels moyens disponibles?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51e1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Tahoma"/>
              </a:rPr>
              <a:t>Pourquoi choisir le Forum-Ouvert?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51e1f"/>
                </a:solidFill>
                <a:latin typeface="Tahoma"/>
              </a:rPr>
              <a:t>La concertation est une partie intégrante d’un projet de développement durable. 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51e1f"/>
                </a:solidFill>
                <a:latin typeface="Tahoma"/>
              </a:rPr>
              <a:t>A ce titre, elle doit aussi développer sa stratégie et ses objectifs afin de mettre en places des actions/ outils efficaces! </a:t>
            </a: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A9A1-9A41-4F5C-863F-78141ACF44C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Loi et principes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"Si vous n’êtes en train ni d’apprendre, ni de contribuer, passez à autre chose!  »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51e1f"/>
                </a:solidFill>
                <a:latin typeface="Calibri"/>
              </a:rPr>
              <a:t>Abeille ou papillon, les participants « pollinisent »  les atelie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Les personnes qui se présentent sont les bonnes 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Ce qui arrive est ce qui doit arriver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Ça commence, quand ça commence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C’est fini quand c’est fini  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lvl="1"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51e1f"/>
                </a:solidFill>
                <a:latin typeface="Calibri"/>
              </a:rPr>
              <a:t>Responsabilisation et Auto-organisation</a:t>
            </a:r>
            <a:endParaRPr b="1" lang="en-US" sz="2800" spc="-1" strike="noStrike">
              <a:solidFill>
                <a:srgbClr val="e09c18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58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B738-6A4A-432C-8FB2-D7F5FC05680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 temps collectif, en cercle, pour accueillir et présenter le dispositif et la problématique à traiter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’émergence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lvl="1"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e convergence </a:t>
            </a:r>
            <a:endParaRPr b="1" lang="en-US" sz="2800" spc="-1" strike="noStrike">
              <a:solidFill>
                <a:srgbClr val="e09c18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a création collective de l’ordre du jou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’organisation des mini ateli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a tenue des mini ateliers, en cerc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a rédaction des rapports/plans d’action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 temps de clôture du Forum-ouvert, en cercle   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62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B72E-3D5C-43CA-B1C6-0AFDC52C7A16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 temps collectif, en cercle, pour accueillir et présenter le dispositif et la problématique à traiter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’émergence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lvl="1"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e convergence </a:t>
            </a:r>
            <a:endParaRPr b="1" lang="en-US" sz="2800" spc="-1" strike="noStrike">
              <a:solidFill>
                <a:srgbClr val="e09c18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a création collective de l’ordre du jou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’organisation des mini ateli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a tenue des mini ateliers, en cerc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a rédaction des rapports/plans d’action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 temps de clôture du Forum-ouvert, en cercle   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66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C461-2291-45BB-8423-B78D1C5EE01D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 temps collectif, en cercle, pour accueillir et présenter le dispositif et la problématique à traiter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E46-6275-4053-9C67-80F0101C0D2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5" descr="Forum_Ouvert_260213_014.jpg"/>
          <p:cNvPicPr/>
          <p:nvPr/>
        </p:nvPicPr>
        <p:blipFill>
          <a:blip r:embed="rId2"/>
          <a:stretch/>
        </p:blipFill>
        <p:spPr>
          <a:xfrm>
            <a:off x="1752480" y="2649600"/>
            <a:ext cx="632484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’émergence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a création collective de l’ordre du jou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474"/>
              </a:solidFill>
              <a:latin typeface="Tahoma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80E6-2DB4-41BF-9627-2CF6E482B36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age 9" descr="Forum_Ouvert_260213_040.jpg"/>
          <p:cNvPicPr/>
          <p:nvPr/>
        </p:nvPicPr>
        <p:blipFill>
          <a:blip r:embed="rId2"/>
          <a:stretch/>
        </p:blipFill>
        <p:spPr>
          <a:xfrm>
            <a:off x="4343400" y="3581280"/>
            <a:ext cx="4648320" cy="3092400"/>
          </a:xfrm>
          <a:prstGeom prst="rect">
            <a:avLst/>
          </a:prstGeom>
          <a:ln w="0">
            <a:noFill/>
          </a:ln>
        </p:spPr>
      </p:pic>
      <p:pic>
        <p:nvPicPr>
          <p:cNvPr id="77" name="Image 8" descr="Forum_Ouvert_260213_025.jpg"/>
          <p:cNvPicPr/>
          <p:nvPr/>
        </p:nvPicPr>
        <p:blipFill>
          <a:blip r:embed="rId3"/>
          <a:stretch/>
        </p:blipFill>
        <p:spPr>
          <a:xfrm>
            <a:off x="152280" y="2209680"/>
            <a:ext cx="47246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e convergence </a:t>
            </a:r>
            <a:endParaRPr b="1" lang="en-US" sz="2800" spc="-1" strike="noStrike">
              <a:solidFill>
                <a:srgbClr val="e09c18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’organisation des mini ateli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9B95-9A69-48A3-B36A-CDC693FA454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7" descr="Forum_Ouvert_260213_045.jpg"/>
          <p:cNvPicPr/>
          <p:nvPr/>
        </p:nvPicPr>
        <p:blipFill>
          <a:blip r:embed="rId2"/>
          <a:stretch/>
        </p:blipFill>
        <p:spPr>
          <a:xfrm>
            <a:off x="4343400" y="3581280"/>
            <a:ext cx="4648320" cy="3092400"/>
          </a:xfrm>
          <a:prstGeom prst="rect">
            <a:avLst/>
          </a:prstGeom>
          <a:ln w="0">
            <a:noFill/>
          </a:ln>
        </p:spPr>
      </p:pic>
      <p:pic>
        <p:nvPicPr>
          <p:cNvPr id="83" name="Image 5" descr="Forum_Ouvert_260213_043.jpg"/>
          <p:cNvPicPr/>
          <p:nvPr/>
        </p:nvPicPr>
        <p:blipFill>
          <a:blip r:embed="rId3"/>
          <a:stretch/>
        </p:blipFill>
        <p:spPr>
          <a:xfrm>
            <a:off x="152280" y="2286000"/>
            <a:ext cx="4686480" cy="31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7" descr="page 2 TER.png"/>
          <p:cNvPicPr/>
          <p:nvPr/>
        </p:nvPicPr>
        <p:blipFill>
          <a:blip r:embed="rId1"/>
          <a:stretch/>
        </p:blipFill>
        <p:spPr>
          <a:xfrm>
            <a:off x="0" y="3809880"/>
            <a:ext cx="321804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501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8b133"/>
                </a:solidFill>
                <a:latin typeface="Tahoma"/>
              </a:rPr>
              <a:t>Présentation de l’outil</a:t>
            </a:r>
            <a:br>
              <a:rPr sz="3200"/>
            </a:br>
            <a:r>
              <a:rPr b="1" lang="fr-FR" sz="2400" spc="-1" strike="noStrike">
                <a:solidFill>
                  <a:srgbClr val="68b133"/>
                </a:solidFill>
                <a:latin typeface="Tahoma"/>
              </a:rPr>
              <a:t>Déroulé-type d’un forum-ouvert</a:t>
            </a:r>
            <a:endParaRPr b="1" lang="en-US" sz="2400" spc="-1" strike="noStrike">
              <a:solidFill>
                <a:srgbClr val="c31a1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51e1f"/>
                </a:solidFill>
                <a:latin typeface="Calibri"/>
              </a:rPr>
              <a:t>Une phase d’émergence </a:t>
            </a:r>
            <a:endParaRPr b="0" lang="en-US" sz="2800" spc="-1" strike="noStrike">
              <a:solidFill>
                <a:srgbClr val="747474"/>
              </a:solidFill>
              <a:latin typeface="Tahoma"/>
            </a:endParaRPr>
          </a:p>
          <a:p>
            <a:pPr lvl="2"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1e1f"/>
                </a:solidFill>
                <a:latin typeface="Calibri"/>
              </a:rPr>
              <a:t>La tenue des mini ateliers, en cerc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14280" y="6492960"/>
            <a:ext cx="123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C801-D45E-4C6F-AF50-08DAC568561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5" descr="Forum_Ouvert_260213_067.jpg"/>
          <p:cNvPicPr/>
          <p:nvPr/>
        </p:nvPicPr>
        <p:blipFill>
          <a:blip r:embed="rId2"/>
          <a:stretch/>
        </p:blipFill>
        <p:spPr>
          <a:xfrm>
            <a:off x="1676520" y="2362320"/>
            <a:ext cx="6281640" cy="417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9:42:01Z</dcterms:created>
  <dc:creator>Emmanuel Narcy</dc:creator>
  <dc:description/>
  <dc:language>en-US</dc:language>
  <cp:lastModifiedBy>CONSEIL GENERAL DE L'ESSONNE</cp:lastModifiedBy>
  <dcterms:modified xsi:type="dcterms:W3CDTF">2013-04-24T15:06:24Z</dcterms:modified>
  <cp:revision>17</cp:revision>
  <dc:subject/>
  <dc:title>Présentation PowerPoint</dc:title>
</cp:coreProperties>
</file>