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1CB-6D6C-4BF5-B3EF-58924B24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345-3F1A-4202-9492-83A6FB72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809-9C2E-4F95-BD02-EE1270B8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154-5959-402A-8215-F833506E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800-776A-4B45-B7A2-01732B4F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0AB-A4A6-4DE9-9AA1-5BE72568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56A-6E19-480E-AEC0-FEF18FEA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220-A75F-496F-A564-BF8E3BCF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72F-CC88-4DBF-B51B-AABC96A1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517-9589-4031-95B4-A36FF441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772-99DE-49FF-82BC-7C25A1FB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885-85CC-46A6-9C5A-4D2FE83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EC3E-C4CB-4F72-8281-69C0B2B3F4D9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2276640"/>
            <a:ext cx="7993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méthodes d’animations</a:t>
            </a:r>
            <a:br>
              <a:rPr sz="3600"/>
            </a:br>
            <a:br>
              <a:rPr sz="1800"/>
            </a:b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articipatives de ré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5733720"/>
            <a:ext cx="64008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éline Braillet – DDDS – CG9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981000"/>
            <a:ext cx="7772400" cy="1008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Réseau Climat Essonnien</a:t>
            </a:r>
            <a:br>
              <a:rPr sz="2400"/>
            </a:b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28 mars 2013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20000" y="5229360"/>
            <a:ext cx="17622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Pourquoi de nouvelles techniques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920" y="198900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esoin de construire ensem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esoin de partager les technicités, les experti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esoin de nouveaut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573360"/>
            <a:ext cx="7924680" cy="5763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Quels types de réunion 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221000"/>
            <a:ext cx="79200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éunions où vous voulez produir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556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355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épondre à une ques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55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o-construire un proj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55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réation d’outils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42560" y="1989000"/>
            <a:ext cx="777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 guide qui présente 8 techniques d’animations ou « jeux cadres 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our chaque technique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objectif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nombre de joue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a duré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règles du je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besoins matéri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a stratég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es conseils pour l’animate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96320" y="1309320"/>
            <a:ext cx="8120520" cy="56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Ce que le Conseil général vous propose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000" y="1052640"/>
            <a:ext cx="79930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12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es conseils su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Quel jeu choisir 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fonction de ce que l’on veut obtenir à la fin du je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Quand « jouer »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ou plusieurs jeux au cours de la réun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début pour aider le grouper à cerner le sujet, au centre de la réunion pour faire de la production, à la fin pour évaluer la réun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33520" indent="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omment jouer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ègles du jeu doivent être comprises par l’ensemble des participa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cune des règles des jeux ne sont immu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Un exemple: le jeu de l’envelopp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26560" y="148392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Objectif du jeu: </a:t>
            </a: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L’objectif de ce jeu est de permettre à chaque participant de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pouvoir s’exprimer par écrit</a:t>
            </a: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 sur une question précise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Nombre de joueurs: </a:t>
            </a: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5 – 15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Durée de jeu: </a:t>
            </a: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15 - 30 minut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Méthodologie:</a:t>
            </a: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 Dans cet exercice, vous allez pouvoir recueillir de l’information en lien avec l’expérience et l’expertise de chaque participant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Arial"/>
              </a:rPr>
              <a:t>Une question = une envelop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haque participant note sur une demi feuille A4 - en majuscules et assez gros - les idées / solutions en lien avec le sujet de l’envelopp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e fois toutes les enveloppes remplies, affichez les réponses sur un suppor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ntérêt des redondances, des résultats surprenants...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2492280"/>
            <a:ext cx="9792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38080" y="1341000"/>
            <a:ext cx="7981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Stratégi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L’enveloppe va permettre à chacun de pouvoir s’exprimer sans être coupé par un autre participant, de pouvoir « sécher » sur une des catégories sans se sentir pointé du doigt…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Ce jeu peut permettre à l’animateur de participer, sans pour autant prendre la parole ni orienter le groupe. Votre participation est anonyme au même titre que les autr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Utilisation d’un support visuel pour favoriser le consensus, facilite le compte-rendu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770640" cy="282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12000" y="5493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3894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29360" y="810360"/>
            <a:ext cx="783396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Mais aussi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26920" y="184428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a Carte d’empath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 Storybo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s 6 chapeaux de la réflex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a matr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e 5 en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 world caf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29360" y="810360"/>
            <a:ext cx="783396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inconvénients / difficulté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068640"/>
            <a:ext cx="7924680" cy="6397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avantages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26920" y="1628640"/>
            <a:ext cx="8066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Notion de jeu assimilée à « pas sérieux 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avoir se positionner en tant qu’animateur et rythmer la sé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On donne les paroles au ge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716280"/>
            <a:ext cx="8280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ermettre de donner les paroles à tous (à l’écrit ou à l’oral) / Laisser l’expertise de chacun s’exprim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Éviter les oppositions (tout en permettant à chacun de s’exprimer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ajorité de gens satisfaits 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ecours au support visuel très pédagogiq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NSEIL GENERAL DE L'ESSONNE</cp:lastModifiedBy>
  <dcterms:modified xsi:type="dcterms:W3CDTF">2013-03-28T12:01:25Z</dcterms:modified>
  <cp:revision>39</cp:revision>
  <dc:subject/>
  <dc:title>PowerPoint Presentation</dc:title>
</cp:coreProperties>
</file>