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61920" cy="124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48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11798280" y="-11796840"/>
            <a:ext cx="11787120" cy="12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-11798280" y="-11796840"/>
            <a:ext cx="11791800" cy="1248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E3F6-7E4C-40D8-BA48-F350FF1B9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34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342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384440"/>
            <a:ext cx="77342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C0C1-7203-44A8-ABF4-BEB8AFE8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34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742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9040" y="1981080"/>
            <a:ext cx="37742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84440"/>
            <a:ext cx="37742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9040" y="4384440"/>
            <a:ext cx="37742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F7E2-E14B-432C-AA11-5F5B780B7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34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49012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0840" y="1981080"/>
            <a:ext cx="249012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880" y="1981080"/>
            <a:ext cx="249012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384440"/>
            <a:ext cx="249012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0840" y="4384440"/>
            <a:ext cx="249012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880" y="4384440"/>
            <a:ext cx="249012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EEC5-4EE1-4218-9427-14F579A92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34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3424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6809-85E1-4462-AC6F-527BDA5C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34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3424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E8BB-7375-4746-9425-B671974A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34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7424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9040" y="1981080"/>
            <a:ext cx="377424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93F2-A01C-47D2-A9B1-8C5AA3A9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34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D68A-DC75-4E89-94A5-BC9F95C3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34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A82E-51CE-41F3-A665-22B8B189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34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742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9040" y="1981080"/>
            <a:ext cx="377424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384440"/>
            <a:ext cx="37742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34EC-27E0-4A66-896E-A64E9ACF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34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7424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9040" y="1981080"/>
            <a:ext cx="37742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9040" y="4384440"/>
            <a:ext cx="37742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FE83-C748-4C7C-868F-804FB634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34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742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9040" y="1981080"/>
            <a:ext cx="37742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384440"/>
            <a:ext cx="77342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60F9-9417-42CC-B04B-B50EB6EA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34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3424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669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57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669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B59B8-F62B-49BD-9713-9DF34B435449}" type="slidenum">
              <a:rPr b="0" lang="fr-FR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9640" y="507960"/>
            <a:ext cx="8280360" cy="56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ircuits courts et environ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ésentation : Yves Guy – DDT de l’Essonne – 14 novembre 201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76360" y="1224000"/>
            <a:ext cx="7738920" cy="54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Création de réseau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81040" indent="-566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ucteurs, consommateu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81040" indent="-566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rritorialisation des emplois, des responsabilités juridiques et techniqu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Forte dimension culturel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81040" indent="-566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trouver des racines pour les urbai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81040" indent="-566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lture rurale qui pénètre en vil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81040" indent="-566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ilosophie, choix de v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Urbanisme questionn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81040" indent="-566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ertion d’espaces ouverts dans l’urb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81040" indent="-566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stion des circul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144360"/>
            <a:ext cx="671220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c5000b"/>
                </a:solidFill>
                <a:latin typeface="Arial"/>
              </a:rPr>
              <a:t>Les circuits courts agricoles en Essonn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c5000b"/>
                </a:solidFill>
                <a:latin typeface="Arial"/>
              </a:rPr>
              <a:t>Éléments sociét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03280" y="1117440"/>
            <a:ext cx="8351640" cy="56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Bilan carb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spcBef>
                <a:spcPts val="7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ff"/>
                </a:solidFill>
                <a:latin typeface="Arial"/>
              </a:rPr>
              <a:t>Les conditions de production comptent plus au bilan carbone que la logistique et l’av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act très négatif des contre sai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&gt;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e rose produite localement sous serre chauffée est parfois moins vertueuse qu’une rose importé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e camionnette de 3 T est 10 fois moins efficiente que le 40 T lui même 10 fois moins efficient que le batea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&gt;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e gigot d’agneau de NZ a généralement un meilleur bilan carbone rendu Évry que l’agneau de Prove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&gt; Éviter les livraisons &lt; 3,5 T au delà de 50 k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144360"/>
            <a:ext cx="671220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c5000b"/>
                </a:solidFill>
                <a:latin typeface="Arial"/>
              </a:rPr>
              <a:t>Les circuits courts agricoles en Essonn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c5000b"/>
                </a:solidFill>
                <a:latin typeface="Arial"/>
              </a:rPr>
              <a:t>Éléments environnementaux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47640" y="1944720"/>
            <a:ext cx="773748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154080"/>
                <a:tab algn="l" pos="60336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ff"/>
                </a:solidFill>
                <a:latin typeface="Arial"/>
              </a:rPr>
              <a:t>Désindustrialisation critique pour l’élev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154080"/>
                <a:tab algn="l" pos="60336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x : absence d’abattoir de proximité =&gt; Parfois deux A-R et 400 Km parcourus en 3,5 T pour conduire un ou deux bovins à l’abattoir et ramener les carcasses à la fer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154080"/>
                <a:tab algn="l" pos="60336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ff"/>
                </a:solidFill>
                <a:latin typeface="Arial"/>
              </a:rPr>
              <a:t>Le comportement du consommateur final est plus important dans le bilan qu’en</a:t>
            </a:r>
            <a:r>
              <a:rPr b="0" lang="fr-FR" sz="2800" spc="-1" strike="noStrike">
                <a:solidFill>
                  <a:srgbClr val="0000ff"/>
                </a:solidFill>
                <a:latin typeface="Arial"/>
              </a:rPr>
              <a:t> circuit lo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154080"/>
                <a:tab algn="l" pos="60336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=&gt; Le bilan carbone n’est pas un argument décisif en faveur des circuits cou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144360"/>
            <a:ext cx="671220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c5000b"/>
                </a:solidFill>
                <a:latin typeface="Arial"/>
              </a:rPr>
              <a:t>Les circuits courts agricoles en Essonn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c5000b"/>
                </a:solidFill>
                <a:latin typeface="Arial"/>
              </a:rPr>
              <a:t>Éléments environnementaux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35280" y="1368360"/>
            <a:ext cx="3959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Bilan car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295280" y="144360"/>
            <a:ext cx="671220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c5000b"/>
                </a:solidFill>
                <a:latin typeface="Arial"/>
              </a:rPr>
              <a:t>Les circuits courts agricoles en Essonn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c5000b"/>
                </a:solidFill>
                <a:latin typeface="Arial"/>
              </a:rPr>
              <a:t>Éléments environnementaux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6000" y="1079640"/>
            <a:ext cx="8640720" cy="55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2" marL="1143000" indent="-22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éservation de la terre nourrici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P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 de productions agricoles capables de rivaliser en pression foncière avec les opportunités urbaines en Ile-de-Fra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=&gt; La terre, ressource non renouvelable, doit être protégée de la loi du marché, sinon elle est détru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Biodiversité, climat, 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Impact de l’agriculture très variable selon les types de productions agricoles… mais toujours meilleur que le bitume ou le béton (Climat, faune, flore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Possibilité de valoriser des périmètres non constructibles (captage d’eau potable, cône de bruit…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    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=&gt; Un champ est aussi un espace vert et viv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700200" y="1619280"/>
            <a:ext cx="775944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36600" algn="ctr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erci de votre attention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63280" y="41400"/>
            <a:ext cx="755964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c5000b"/>
                </a:solidFill>
                <a:latin typeface="Arial"/>
              </a:rPr>
              <a:t>Les circuits courts agricoles </a:t>
            </a:r>
            <a:br>
              <a:rPr sz="2600"/>
            </a:br>
            <a:r>
              <a:rPr b="1" lang="fr-FR" sz="3600" spc="-1" strike="noStrike">
                <a:solidFill>
                  <a:srgbClr val="c5000b"/>
                </a:solidFill>
                <a:latin typeface="Arial"/>
              </a:rPr>
              <a:t>Dé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63640" y="1324080"/>
            <a:ext cx="7343640" cy="306684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647640" y="4464000"/>
            <a:ext cx="7772400" cy="2084400"/>
            <a:chOff x="647640" y="4464000"/>
            <a:chExt cx="7772400" cy="2084400"/>
          </a:xfrm>
        </p:grpSpPr>
        <p:sp>
          <p:nvSpPr>
            <p:cNvPr id="71" name=""/>
            <p:cNvSpPr/>
            <p:nvPr/>
          </p:nvSpPr>
          <p:spPr>
            <a:xfrm>
              <a:off x="1573200" y="4464000"/>
              <a:ext cx="6846840" cy="20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Souvent mis en avant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ins de transpor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Plus largement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ternalisation de préoccupations très diverses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 produits de saison, emploi, gestion des emballages, réglementation sociale et sanitaire…) et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cédés très variés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47640" y="4925880"/>
              <a:ext cx="735120" cy="9064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47880" y="144360"/>
            <a:ext cx="77644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c5000b"/>
                </a:solidFill>
                <a:latin typeface="Arial"/>
              </a:rPr>
              <a:t>Les circuits courts agrico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c5000b"/>
                </a:solidFill>
                <a:latin typeface="Arial"/>
              </a:rPr>
              <a:t>Définition… à tiroi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60240" y="4248000"/>
            <a:ext cx="776304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1280" y="1224000"/>
            <a:ext cx="892836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47880" y="144360"/>
            <a:ext cx="77644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c5000b"/>
                </a:solidFill>
                <a:latin typeface="Arial"/>
              </a:rPr>
              <a:t>Les circuits courts agrico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c5000b"/>
                </a:solidFill>
                <a:latin typeface="Arial"/>
              </a:rPr>
              <a:t>Définition… et lim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60240" y="1224000"/>
            <a:ext cx="776304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57360" indent="-657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Vente direct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au consommateur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81040" indent="-566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Ex : Vente à la fer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Ou vente avec un seul intermédiai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1040" indent="-566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Ex : Vente à un restaurateur ou un commerce de dét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  <a:ea typeface="Lucida Sans Unicode"/>
              </a:rPr>
              <a:t>Attention 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  <a:ea typeface="Lucida Sans Unicode"/>
              </a:rPr>
              <a:t>les circuits courts sont souvent des circuits de proximité mais pas obligatoir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1040" indent="-566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Ex : Vente et livraison à Paris par vigner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1040" indent="-566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Ex : Vente par correspondance via Int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1040" indent="-566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tabLst>
                <a:tab algn="l" pos="0"/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Lucida Sans Unicode"/>
              </a:rPr>
              <a:t>Attention :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Lucida Sans Unicode"/>
              </a:rPr>
              <a:t>le circuit court est un mode de distribution, pas d’un type de production. Tout n’est pas bi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20720" y="181080"/>
            <a:ext cx="77644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20720" y="5761080"/>
            <a:ext cx="7551720" cy="815760"/>
            <a:chOff x="720720" y="5761080"/>
            <a:chExt cx="7551720" cy="815760"/>
          </a:xfrm>
        </p:grpSpPr>
        <p:sp>
          <p:nvSpPr>
            <p:cNvPr id="80" name=""/>
            <p:cNvSpPr/>
            <p:nvPr/>
          </p:nvSpPr>
          <p:spPr>
            <a:xfrm>
              <a:off x="1619280" y="5761080"/>
              <a:ext cx="6653160" cy="81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b8ff"/>
                  </a:solidFill>
                  <a:latin typeface="Liberation Sans;Arial"/>
                </a:rPr>
                <a:t>Productions rares en Essonne, département principalement céréalie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20720" y="5940360"/>
              <a:ext cx="714240" cy="354240"/>
            </a:xfrm>
            <a:prstGeom prst="rightArrow">
              <a:avLst>
                <a:gd name="adj1" fmla="val 50000"/>
                <a:gd name="adj2" fmla="val 5040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019160" y="216000"/>
            <a:ext cx="7764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c5000b"/>
                </a:solidFill>
                <a:latin typeface="Arial"/>
              </a:rPr>
              <a:t>Les circuits courts agrico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c5000b"/>
                </a:solidFill>
                <a:latin typeface="Arial"/>
              </a:rPr>
              <a:t>Quels produits sont concernés 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6360" y="1224000"/>
            <a:ext cx="776268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57360" indent="-657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duits CC en Essonne 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1040" indent="-566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Fruits, légumes, fines herb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1040" indent="-566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Fleurs et plantes ornement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1040" indent="-566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Viandes, œufs, l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1040" indent="-566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1040" indent="-566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Huile, farine, four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1040" indent="-566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573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6408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111640" y="2808360"/>
            <a:ext cx="381636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8880" y="-71280"/>
            <a:ext cx="83138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c5000b"/>
                </a:solidFill>
                <a:latin typeface="Arial"/>
              </a:rPr>
              <a:t>Les circuits courts agricoles </a:t>
            </a:r>
            <a:br>
              <a:rPr sz="2600"/>
            </a:br>
            <a:r>
              <a:rPr b="1" lang="fr-FR" sz="3200" spc="-1" strike="noStrike">
                <a:solidFill>
                  <a:srgbClr val="c5000b"/>
                </a:solidFill>
                <a:latin typeface="Arial"/>
              </a:rPr>
              <a:t>Quel contexte général en Esson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4360" y="1079640"/>
            <a:ext cx="892836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emande modeste mais souten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 France : 4% des fruits et légumes achetés le sont en vente directe, ce pourcentage atteint 7% si l’on prend en compte l’ensemble des formes des circuits cour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Offre des producteurs émiettée 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800 producteurs CC en Île de France, dont 110 en Essonne, dont 38 Bio… pour 1260 000 essonni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Déséquilibre majeur en Ile-de-France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iberation Sans;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Liberation Sans;Arial"/>
              </a:rPr>
              <a:t>On ne peut pas nourrir 18% des Français avec seulement 2% de la surface agricole française.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71280" y="5832360"/>
            <a:ext cx="8855280" cy="825480"/>
            <a:chOff x="71280" y="5832360"/>
            <a:chExt cx="8855280" cy="825480"/>
          </a:xfrm>
        </p:grpSpPr>
        <p:sp>
          <p:nvSpPr>
            <p:cNvPr id="88" name=""/>
            <p:cNvSpPr/>
            <p:nvPr/>
          </p:nvSpPr>
          <p:spPr>
            <a:xfrm>
              <a:off x="1125360" y="5832360"/>
              <a:ext cx="7801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99ff"/>
                  </a:solidFill>
                  <a:latin typeface="Liberation Sans;Arial"/>
                </a:rPr>
                <a:t>Circuits longs logiquement dominants… mais perspectives de développement des circuits courts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280" y="6014880"/>
              <a:ext cx="838440" cy="357480"/>
            </a:xfrm>
            <a:prstGeom prst="rightArrow">
              <a:avLst>
                <a:gd name="adj1" fmla="val 50000"/>
                <a:gd name="adj2" fmla="val 5863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60360" y="1373040"/>
            <a:ext cx="8496360" cy="42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nombre d’exploitations en circuit court stagne ou diminue en Esson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ort intérêt social (lien social, patrimoine gastronomique, emploi, contrôles sanitaires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bilan carbone des produits vendus pas toujours bon mais nombreux autres intérêts environnementau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19160" y="216000"/>
            <a:ext cx="7764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c5000b"/>
                </a:solidFill>
                <a:latin typeface="Arial"/>
              </a:rPr>
              <a:t>Les circuits courts agrico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c5000b"/>
                </a:solidFill>
                <a:latin typeface="Arial"/>
              </a:rPr>
              <a:t>Une économie durable 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03280" y="5616720"/>
            <a:ext cx="8199000" cy="574560"/>
            <a:chOff x="503280" y="5616720"/>
            <a:chExt cx="8199000" cy="574560"/>
          </a:xfrm>
        </p:grpSpPr>
        <p:sp>
          <p:nvSpPr>
            <p:cNvPr id="93" name=""/>
            <p:cNvSpPr/>
            <p:nvPr/>
          </p:nvSpPr>
          <p:spPr>
            <a:xfrm>
              <a:off x="1479240" y="5616720"/>
              <a:ext cx="72230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800" spc="-1" strike="noStrike">
                  <a:solidFill>
                    <a:srgbClr val="0099ff"/>
                  </a:solidFill>
                  <a:latin typeface="Liberation Sans;Arial"/>
                </a:rPr>
                <a:t>Les avis peuvent être contradictoires selon les enjeux privilégié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03280" y="5742000"/>
              <a:ext cx="775800" cy="249120"/>
            </a:xfrm>
            <a:prstGeom prst="rightArrow">
              <a:avLst>
                <a:gd name="adj1" fmla="val 50000"/>
                <a:gd name="adj2" fmla="val 7785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41440" y="1152360"/>
            <a:ext cx="8315280" cy="47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90 % de la surface agricole de l’Essonne est dédiée aux grandes cultures (GC) 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81040" indent="-566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ché mondial et non lo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18 % soit 110 exploitations font de la vente directe, essentiellement hors GC. L’évolution est très complexe en Essonn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81040" indent="-566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0 % des maraîchers disparus entre 1988 et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1040" indent="-566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isse de 1/3 vente directe entre 2000 et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1040" indent="-566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éveloppement marqué du Bio, mais qui reste minoritaire en circuit cou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144360"/>
            <a:ext cx="734400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c5000b"/>
                </a:solidFill>
                <a:latin typeface="Arial"/>
              </a:rPr>
              <a:t>Les circuits courts agricoles en Essonn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c5000b"/>
                </a:solidFill>
                <a:latin typeface="Arial"/>
              </a:rPr>
              <a:t>Éléments économique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87280" y="5759280"/>
            <a:ext cx="8410320" cy="935280"/>
            <a:chOff x="287280" y="5759280"/>
            <a:chExt cx="8410320" cy="935280"/>
          </a:xfrm>
        </p:grpSpPr>
        <p:sp>
          <p:nvSpPr>
            <p:cNvPr id="98" name=""/>
            <p:cNvSpPr/>
            <p:nvPr/>
          </p:nvSpPr>
          <p:spPr>
            <a:xfrm>
              <a:off x="1288800" y="5759280"/>
              <a:ext cx="7408800" cy="9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99ff"/>
                  </a:solidFill>
                  <a:latin typeface="Liberation Sans;Arial"/>
                </a:rPr>
                <a:t>Il est difficile de maintenir l’existant en Essonne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99ff"/>
                  </a:solidFill>
                  <a:latin typeface="Liberation Sans;Arial"/>
                </a:rPr>
                <a:t>Le développement de nouveaux circuits courts ne peut qu’être très difficile, sauf, relativement, en bio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7280" y="5965920"/>
              <a:ext cx="796680" cy="404640"/>
            </a:xfrm>
            <a:prstGeom prst="rightArrow">
              <a:avLst>
                <a:gd name="adj1" fmla="val 50000"/>
                <a:gd name="adj2" fmla="val 49222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87280" y="1117440"/>
            <a:ext cx="8496360" cy="42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ctr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Grande fragilité des exploit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 algn="ctr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hors Grandes Cul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81040" indent="-566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ande insécurité foncière des vergers ou des serre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81040" indent="-566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ésindustrialisation et isolement technique des producteurs hors grandes cult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81040" indent="-566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ibilité à des aléas multiples (météo, commerce, logistique, réglementation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81040" indent="-566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ficultés techniques et juridiques pour fidéliser des clients institutionn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19160" y="217440"/>
            <a:ext cx="7764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c5000b"/>
                </a:solidFill>
                <a:latin typeface="Arial"/>
              </a:rPr>
              <a:t>Les circuits courts agrico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c5000b"/>
                </a:solidFill>
                <a:latin typeface="Arial"/>
              </a:rPr>
              <a:t>Éléments économique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03280" y="6031080"/>
            <a:ext cx="8199000" cy="574560"/>
            <a:chOff x="503280" y="6031080"/>
            <a:chExt cx="8199000" cy="574560"/>
          </a:xfrm>
        </p:grpSpPr>
        <p:sp>
          <p:nvSpPr>
            <p:cNvPr id="103" name=""/>
            <p:cNvSpPr/>
            <p:nvPr/>
          </p:nvSpPr>
          <p:spPr>
            <a:xfrm>
              <a:off x="1479240" y="6031080"/>
              <a:ext cx="72230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800" spc="-1" strike="noStrike">
                  <a:solidFill>
                    <a:srgbClr val="0099ff"/>
                  </a:solidFill>
                  <a:latin typeface="Liberation Sans;Arial"/>
                </a:rPr>
                <a:t> </a:t>
              </a:r>
              <a:r>
                <a:rPr b="0" lang="en-US" sz="2800" spc="-1" strike="noStrike">
                  <a:solidFill>
                    <a:srgbClr val="0099ff"/>
                  </a:solidFill>
                  <a:latin typeface="Liberation Sans;Arial"/>
                </a:rPr>
                <a:t>Nombreux paramètres en cause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03280" y="6157800"/>
              <a:ext cx="775800" cy="249480"/>
            </a:xfrm>
            <a:prstGeom prst="rightArrow">
              <a:avLst>
                <a:gd name="adj1" fmla="val 50000"/>
                <a:gd name="adj2" fmla="val 77742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4:01:21Z</dcterms:created>
  <dc:creator>Jean-Charles Federico</dc:creator>
  <dc:description/>
  <dc:language>en-US</dc:language>
  <cp:lastModifiedBy/>
  <cp:lastPrinted>2012-09-12T07:12:59Z</cp:lastPrinted>
  <dcterms:modified xsi:type="dcterms:W3CDTF">2013-11-13T08:09:26Z</dcterms:modified>
  <cp:revision>6</cp:revision>
  <dc:subject/>
  <dc:title>Présentation PowerPoint</dc:title>
</cp:coreProperties>
</file>