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C06-14F5-412E-89E2-D9FBEB51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0C0E-22A3-498B-8CDD-46C75C81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0FB-8077-499B-85A8-04A31A4B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06C-DBFE-42A1-9F3E-C9E407C5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3E81-D3D7-48EA-9FE0-056863DE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963A-B909-4D84-A44F-21C00751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3EF1-E8B5-482F-A75E-C968E63C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5E6-F7E6-42DB-B618-1C462ADE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28D1-6C49-42A6-B4D7-F4D971A7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E020-FB7D-409D-91F9-32378753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787-6D45-4ECC-B3D6-7CA6D09A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FDF3-C2D9-4CEE-8B0A-8C0B338A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A119-E59D-4306-BBDA-92CD4AA0CB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804080" y="5661000"/>
          <a:ext cx="696960" cy="10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4080" y="5661000"/>
                    <a:ext cx="6969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lcaille@cg91.fr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Nouveaux contrats de partenariat et Plans Climat Énergi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99ff"/>
                </a:solidFill>
                <a:latin typeface="Times New Roman"/>
              </a:rPr>
              <a:t>Réseau Climat Essonn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808080"/>
                </a:solidFill>
                <a:latin typeface="Times New Roman"/>
              </a:rPr>
              <a:t>20 novembre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63640" y="6165720"/>
            <a:ext cx="58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596360" y="5084640"/>
          <a:ext cx="74448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5084640"/>
                    <a:ext cx="7444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91 - 26 novem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95600" y="62028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Times New Roman"/>
              </a:rPr>
              <a:t>Grenelle de l’Environnement, Bilans Carbone</a:t>
            </a:r>
            <a:br>
              <a:rPr sz="2800"/>
            </a:br>
            <a:r>
              <a:rPr b="1" lang="fr-FR" sz="2800" spc="-1" strike="noStrike">
                <a:solidFill>
                  <a:srgbClr val="3333cc"/>
                </a:solidFill>
                <a:latin typeface="Times New Roman"/>
              </a:rPr>
              <a:t> et Plans Climat Énergie Territori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338328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91 - 26 novem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Les grands principes de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nouveaux contrats de territo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délibération du 2 juillet 2012 a fixé le nouveau cadre des contrats de territoire </a:t>
            </a:r>
            <a:r>
              <a:rPr b="0" lang="fr-FR" sz="2800" spc="-1" strike="noStrike">
                <a:solidFill>
                  <a:srgbClr val="0066ff"/>
                </a:solidFill>
                <a:latin typeface="Times New Roman"/>
              </a:rPr>
              <a:t>(communes et EPCI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basés su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iagnostic territoria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partag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nveloppe financière*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calculée en fonction de la population et d’un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ndice territorial de solidarité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pour les collectivités de plus de 2000 habitants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 du potentiel financier, du taux de chômage, du taux de logement social et du revenu médian par habitant (collectivités de plus de 5000 habita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 du potentiel financier (collectivités de 2000 à 5000 habita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ossibilité de mutualisation avec EPCI ou autres commun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91 - 26 novem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Times New Roman"/>
              </a:rPr>
              <a:t>Les grands principes des 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Times New Roman"/>
              </a:rPr>
              <a:t>nouveaux contrats de territoir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81342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système de bonus/malus </a:t>
            </a: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(collectivités de plus de 2000 habitants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onus de 10 % de l’enveloppe =&gt; si respect de 4 items parmi 7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lan égalité femme/hom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lan de lutte contre les discrim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lan d’accessibilité Handic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tratégie de biodivers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xistence d’un système de tarification sociale des services publics de la collectiv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66"/>
                </a:solidFill>
                <a:latin typeface="Times New Roman"/>
              </a:rPr>
              <a:t>Plan climat éner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dhésion au F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lus de 10% si non respect de critères légaux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struction de logements sociaux (constat de carence/ loi SR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struction d’aires d’accueil des gens du voy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ecrutement de personnes handicapées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50% des obligations lég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66"/>
                </a:solidFill>
                <a:latin typeface="Times New Roman"/>
              </a:rPr>
              <a:t>Réalisation d’un bilan GES pour les collectivités obligée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2708280"/>
            <a:ext cx="309744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99cc"/>
                </a:solidFill>
                <a:latin typeface="Times New Roman"/>
              </a:rPr>
              <a:t>Vérification à mi parc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91 - 26 novem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Times New Roman"/>
              </a:rPr>
              <a:t>Les grands principes des 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Times New Roman"/>
              </a:rPr>
              <a:t>nouveaux contrats de territoire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81342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signature de la Déclaration d’engagements partagés pour une Essonne durable et solid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désignation au sein de la collectivit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’un référent Développement d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’un référent « Appel des 100 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obilisation possible de plusieurs fond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ds de renforcement des services publ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ds d’aménagement durable et d’attractivité des territo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ds de cohésion sociale et urbaine (territoires ANR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ds rural (communes de moins de 2000 habitants – contrats rurau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91 - 26 novem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47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Times New Roman"/>
              </a:rPr>
              <a:t>Éligibilité des opérations au sein des 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Times New Roman"/>
              </a:rPr>
              <a:t>nouveaux contrats de territoi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8036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spect du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référentiel </a:t>
            </a: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Construire et subventionner durabl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pour les opérations d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ruction ou rénovation lourde d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âtiments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’un montant subventionnable de plus de 100 000 € H.T. </a:t>
            </a:r>
            <a:r>
              <a:rPr b="0" i="1" lang="fr-FR" sz="2400" spc="-1" strike="noStrike">
                <a:solidFill>
                  <a:srgbClr val="0099cc"/>
                </a:solidFill>
                <a:latin typeface="Times New Roman"/>
              </a:rPr>
              <a:t>=&gt; 10 obj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ménagement ou requalification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’espaces public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’un montant de plus de 100 000 € H.T. </a:t>
            </a:r>
            <a:r>
              <a:rPr b="0" i="1" lang="fr-FR" sz="2400" spc="-1" strike="noStrike">
                <a:solidFill>
                  <a:srgbClr val="0099cc"/>
                </a:solidFill>
                <a:latin typeface="Times New Roman"/>
              </a:rPr>
              <a:t>=&gt; 5 obj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réation ou requalification d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voiri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’un montant de plus de  500 000 € H.T. </a:t>
            </a:r>
            <a:r>
              <a:rPr b="0" i="1" lang="fr-FR" sz="2400" spc="-1" strike="noStrike">
                <a:solidFill>
                  <a:srgbClr val="0099cc"/>
                </a:solidFill>
                <a:latin typeface="Times New Roman"/>
              </a:rPr>
              <a:t>=&gt; 3 obj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i="1" lang="fr-FR" sz="2400" spc="-1" strike="noStrike">
                <a:solidFill>
                  <a:srgbClr val="0066ff"/>
                </a:solidFill>
                <a:latin typeface="Times New Roman"/>
              </a:rPr>
              <a:t>Présentation d’un pré diagnostic de développement durable, du référentiel chiffré renseigné dans la      demande de subvention puis du bilan d’opération                à la réception des trava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91 - 26 novem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1640" y="1412640"/>
            <a:ext cx="73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2852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Merci de votre attention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lcaille@cg91.fr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91 - 26 novem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lan Climat Énergie de l’Esson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49640" y="1803240"/>
            <a:ext cx="60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Objectif Facteur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8360" y="1557360"/>
          <a:ext cx="7272360" cy="46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27236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611280" y="4581360"/>
            <a:ext cx="100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Trans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299736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Bâtiments, Construction &amp; Voi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227664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Indust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1916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Industries de l’énerg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1700280"/>
            <a:ext cx="10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484280"/>
            <a:ext cx="14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Traitement des déche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9560" y="5627520"/>
            <a:ext cx="1008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Sylvi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47640" y="170028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2807640" y="1809000"/>
            <a:ext cx="720720" cy="503280"/>
          </a:xfrm>
          <a:custGeom>
            <a:avLst/>
            <a:gdLst>
              <a:gd name="textAreaLeft" fmla="*/ 112320 w 720720"/>
              <a:gd name="textAreaRight" fmla="*/ 630720 w 720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5749920" y="2827080"/>
            <a:ext cx="2779560" cy="525600"/>
          </a:xfrm>
          <a:custGeom>
            <a:avLst/>
            <a:gdLst>
              <a:gd name="textAreaLeft" fmla="*/ 434160 w 2779560"/>
              <a:gd name="textAreaRight" fmla="*/ 2432160 w 2779560"/>
              <a:gd name="textAreaTop" fmla="*/ 131400 h 525600"/>
              <a:gd name="textAreaBottom" fmla="*/ 394200 h 525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1916280"/>
            <a:ext cx="720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21680" y="2527200"/>
            <a:ext cx="7207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800000">
            <a:off x="1763280" y="3106440"/>
            <a:ext cx="5759640" cy="1079280"/>
          </a:xfrm>
          <a:custGeom>
            <a:avLst/>
            <a:gdLst>
              <a:gd name="textAreaLeft" fmla="*/ 900000 w 5759640"/>
              <a:gd name="textAreaRight" fmla="*/ 5040000 w 5759640"/>
              <a:gd name="textAreaTop" fmla="*/ 269640 h 1079280"/>
              <a:gd name="textAreaBottom" fmla="*/ 809640 h 1079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99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  <a:ea typeface="Arial"/>
              </a:rPr>
              <a:t>Vers le facteu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1413000"/>
            <a:ext cx="18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11 200 kteCO</a:t>
            </a:r>
            <a:r>
              <a:rPr b="1" lang="fr-FR" sz="20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74760" y="4005360"/>
            <a:ext cx="2078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8</a:t>
            </a:r>
            <a:r>
              <a:rPr b="1" lang="fr-FR" sz="1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700 kteCO</a:t>
            </a:r>
            <a:r>
              <a:rPr b="1" lang="fr-FR" sz="20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56360" y="5157720"/>
            <a:ext cx="1800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2 700 kteCO</a:t>
            </a:r>
            <a:r>
              <a:rPr b="1" lang="fr-FR" sz="20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40360" y="587700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  <a:ea typeface="Arial"/>
              </a:rPr>
              <a:t>© Solving Efe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91 - 26 novembre 2009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82560" y="836280"/>
            <a:ext cx="738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Le Plan Climat Énergie de l’Essonne : volet institutionnel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270792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ff"/>
                </a:solidFill>
                <a:latin typeface="Times New Roman"/>
              </a:rPr>
              <a:t>PROGRAMME DE 42 ACTIONS AUTOUR DE 7 THEMA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âtiment, infrastructures et demandes en éne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Conseil Général de l’Essonne, exemplaire sur son patrimo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Conseil Général de l’Essonne incit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veloppement des énergies renouvel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utte contre la précarité énergé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ieux se déplacer en Esso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arité du dépar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partement incit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800" y="2133720"/>
            <a:ext cx="8504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cc"/>
                </a:solidFill>
                <a:latin typeface="Times New Roman"/>
              </a:rPr>
              <a:t>Délibération soumise à l’Assemblée départementale le </a:t>
            </a: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21 juin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91 - 26 novem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85440" y="69192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Le Plan Climat Énergie de l’Essonne : volet institutionnel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3342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chats, consommation et déch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éveloppement de la commande publique du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Gestion des déch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ctivités économ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éveloppement des éco fili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co responsabilité des entrepr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griculture et biodivers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motion d’une agriculture « durable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méliorer la gestion des espaces natur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ménagement du territoire et urbanis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ménagement durable du territo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daptation du territoire départe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Suivi et animation du Plan Climat Territoria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: comptabilité carbone, révision des dispositifs financiers, an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164360" y="3141720"/>
          <a:ext cx="86220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3141720"/>
                    <a:ext cx="8622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5435640" y="270828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66ff"/>
                </a:solidFill>
                <a:latin typeface="Times New Roman"/>
              </a:rPr>
              <a:t>Avec le soutien du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66ff"/>
                </a:solidFill>
                <a:latin typeface="Times New Roman"/>
              </a:rPr>
              <a:t>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G91 - 26 novem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09:07:48Z</dcterms:created>
  <dc:creator>CONSEIL GENERAL DE L'ESSONNE</dc:creator>
  <dc:description/>
  <dc:language>en-US</dc:language>
  <cp:lastModifiedBy>CONSEIL GENERAL DE L'ESSONNE</cp:lastModifiedBy>
  <dcterms:modified xsi:type="dcterms:W3CDTF">2012-11-19T17:55:15Z</dcterms:modified>
  <cp:revision>67</cp:revision>
  <dc:subject/>
  <dc:title>Lancement de l’Agenda 21 de l’Essonne</dc:title>
</cp:coreProperties>
</file>